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834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83200" cy="97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3"/>
          </p:nvPr>
        </p:nvSpPr>
        <p:spPr>
          <a:xfrm>
            <a:off x="389736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014120" y="728640"/>
            <a:ext cx="4854600" cy="364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4"/>
          </p:nvPr>
        </p:nvSpPr>
        <p:spPr>
          <a:xfrm>
            <a:off x="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5"/>
          </p:nvPr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981B-8B2C-42AF-B3EF-D0999D4FB1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D081-35DE-4513-B268-BAF67CFEC2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00DC-175A-4D1B-8D38-F25B5F3E07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D189-2EDD-4686-9B10-82134C1067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FB53-CD06-4E62-A478-B74DFE9FEB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38DB-5E56-4BFC-AF7A-5860D136F6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377D-1FF0-458F-8302-B244AC554D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8AE7-BC12-4AC1-B142-F4EB6E2C9A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4D91-7324-4C98-980D-86369AD7E9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9AAD-FFFE-4348-829C-A7AD9C339F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662C-61C5-4232-A237-A0561FC5DC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33E7-C1A1-423F-AA4B-B59B78226A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F655-94E6-4336-8794-994F8C9BA0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0B20-6F2E-47D1-B614-FF146FBD4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E1F0-0B9F-41B4-845F-E2EA5039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172C-E976-49EB-AD1B-528CC336C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0A84-B4B0-44CA-9FC1-729A3DAC8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8915-0EA5-47CB-8799-26DACEF01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5867-4F22-4D8A-A457-8858896F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17FC-C751-488F-AC31-B70E726B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71D6-C2F5-4D2E-9646-0ECDF6A6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2F67-0B7C-4C76-BEDE-F47C6C3E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4462-B8F0-4345-99FE-621FC317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4ABD-7790-4460-93D9-FF6356AC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6752-13FC-4CF4-89CA-FAC60C66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1AE3-A61F-4EF9-BFC4-F5C1B4BA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5F96-4CCE-4860-AAF0-2324D394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1C3B-679C-4539-AA83-687F5FD4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017B-50CF-4BF9-8D9E-6507102CF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99A8-3746-4CE0-AC5C-82A3D4F3E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3EF6A-8C46-45BA-845C-9D3AFD849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DEB98-7E24-4836-B58F-B6E8256B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384E3-2561-4466-AE29-2923B8CD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2B35E-4ADE-43A2-A243-0FA346F1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B8E7C-8976-41C6-9C81-8B357E7D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CAA5-D0C8-4FF7-B850-E5589626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F5AB6-3DB2-4341-B925-ACCB064E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88385-678A-4277-92A1-1571D964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9F3BE-0ECB-4477-84F1-4FC32CA7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BFC69-FBCD-4BF1-99E2-4419AF5F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41A16-FB60-41A6-BCA9-04470368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F3FBB-0611-4E5A-A0FC-E9A7F6959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0481E-8D80-4D53-A349-AEEE855E9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CFCAE-FEF6-4F88-B22A-6E57AAD63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14BB8-7DB8-4FA6-9751-A862D73C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9433C-8C4B-4A89-B0FC-1020A919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CE3B-8A28-459F-8568-A1766134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CF455-8DF3-4392-824D-6EFFD3C7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D1B55-91C4-47B6-B182-DF2E1F04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F80EB-7247-4E68-AAAA-DC2D08CC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7A32A-9DF6-4789-AF2C-32495F3A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CB613-FBE4-4014-9E2C-06674397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35A68-4268-4BE2-AB8B-54EEA903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FD100-DF80-427F-88BC-F13D2264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73EBD-64F6-48A4-964F-F76E56CAD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C7FC4-7DD2-4E48-B16B-23D1445D6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0924-BFEB-40C8-B8B8-424DD706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5224-26FD-486B-B086-86086C59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DF46-3CC8-4C8F-B51F-48CA14D3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E8C8-7EDC-4F5F-9B07-CCA8E73D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DB8B-21A1-4120-AED8-F4086629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aed2"/>
            </a:gs>
            <a:gs pos="100000">
              <a:srgbClr val="ebfa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1205000.png"/>
          <p:cNvPicPr/>
          <p:nvPr/>
        </p:nvPicPr>
        <p:blipFill>
          <a:blip r:embed="rId2"/>
          <a:stretch/>
        </p:blipFill>
        <p:spPr>
          <a:xfrm>
            <a:off x="0" y="0"/>
            <a:ext cx="1728720" cy="1657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4e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AC42-E861-4717-B97A-F28C9451B2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E979-BE34-476D-A73B-3BB3DA78430F}" type="slidenum">
              <a:rPr b="1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9ed0"/>
            </a:gs>
            <a:gs pos="100000">
              <a:srgbClr val="ebfa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6" descr="1205000.png"/>
          <p:cNvPicPr/>
          <p:nvPr/>
        </p:nvPicPr>
        <p:blipFill>
          <a:blip r:embed="rId2"/>
          <a:stretch/>
        </p:blipFill>
        <p:spPr>
          <a:xfrm>
            <a:off x="0" y="0"/>
            <a:ext cx="1728720" cy="1657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4e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9CF3-10F6-46E4-A128-A05513F3BA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4e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0025-3F6D-411E-A215-F284718830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278920" cy="39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стер – класс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Использование приемов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критического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ышления на уроках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в начальных классах»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78920" y="4797000"/>
            <a:ext cx="8425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 КГ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орнеевская средняя школа» Макухина Ю.В.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C:\Users\29\Desktop\Снимок.JPG"/>
          <p:cNvPicPr/>
          <p:nvPr/>
        </p:nvPicPr>
        <p:blipFill>
          <a:blip r:embed="rId1"/>
          <a:stretch/>
        </p:blipFill>
        <p:spPr>
          <a:xfrm>
            <a:off x="5778360" y="1554120"/>
            <a:ext cx="278604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5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комендуемые приём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стадии осмысл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186920" y="1125360"/>
            <a:ext cx="6697800" cy="573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нсерт»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пометки на поля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ение с останов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Тонкие и толстые вопрос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Мозговой штур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Фишбоу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Взаимоопро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Горячий сту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37856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Приём «Инсерт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475920"/>
            <a:ext cx="8964720" cy="638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апы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Каждому ученику выдается текст и  таб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Прочитывание и осмысление текста с последующими пометками на полях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+» - если считают, что это им извест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-» - если считают, что это противоречит тем знаниям, которые у них е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» - если то, что прочитали, является новы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?» - если то, что прочитали, оказалось непонятным и требует разъяснений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. Систематизация текс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. Заполнение таблицы в виде сжатой информации (это может быть слово, фраза, понятие и т.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. Обсуждение в группах по заданной 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7. Затем идет межгрупповое обсуждение  каждого столб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136000" cy="74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ставляется индивидуально по результатам работы с тексто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826920" y="2205000"/>
          <a:ext cx="7561440" cy="2087640"/>
        </p:xfrm>
        <a:graphic>
          <a:graphicData uri="http://schemas.openxmlformats.org/drawingml/2006/table">
            <a:tbl>
              <a:tblPr/>
              <a:tblGrid>
                <a:gridCol w="1890720"/>
                <a:gridCol w="1890720"/>
                <a:gridCol w="1889280"/>
                <a:gridCol w="1890720"/>
              </a:tblGrid>
              <a:tr h="135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Зн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«+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Хочу узн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«-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Узнал нов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«</a:t>
                      </a:r>
                      <a:r>
                        <a:rPr b="0" i="1" lang="en-US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V</a:t>
                      </a: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Вопр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«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</a:tr>
              <a:tr h="73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</a:tr>
            </a:tbl>
          </a:graphicData>
        </a:graphic>
      </p:graphicFrame>
      <p:sp>
        <p:nvSpPr>
          <p:cNvPr id="201" name="Rectangle 30"/>
          <p:cNvSpPr/>
          <p:nvPr/>
        </p:nvSpPr>
        <p:spPr>
          <a:xfrm>
            <a:off x="468360" y="4508640"/>
            <a:ext cx="813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атериал обсуждается в парах и сообщается учителю, который её фиксирует. Обсуждение позволяет систематизировать информацию и выделить главные вопро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7440" cy="6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Таблица аргументов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71280" y="1052640"/>
            <a:ext cx="7272360" cy="129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итель даёт аргументы. Учащиеся должны их опровергнуть или подтвердить фактами имеющихся знаний по данной 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55640" y="3357720"/>
          <a:ext cx="7800840" cy="1676160"/>
        </p:xfrm>
        <a:graphic>
          <a:graphicData uri="http://schemas.openxmlformats.org/drawingml/2006/table">
            <a:tbl>
              <a:tblPr/>
              <a:tblGrid>
                <a:gridCol w="2600280"/>
                <a:gridCol w="2600280"/>
                <a:gridCol w="260028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ргум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меля в сказке «По щучьему велению» был лентя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чему «д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чему «нет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Приём «Тонкие и толстые вопросы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84360" y="836640"/>
          <a:ext cx="7921440" cy="5113440"/>
        </p:xfrm>
        <a:graphic>
          <a:graphicData uri="http://schemas.openxmlformats.org/drawingml/2006/table">
            <a:tbl>
              <a:tblPr/>
              <a:tblGrid>
                <a:gridCol w="3960720"/>
                <a:gridCol w="3960720"/>
              </a:tblGrid>
              <a:tr h="592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нкие вопросы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лстые вопросы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521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кто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что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когда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может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будет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мог 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как зва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было 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согласны ли вы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верно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дайте объяснение, почему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очему вы думаете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очему вы считаете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в чем разница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редположите, что будет, ес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что, ес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246320" y="213840"/>
            <a:ext cx="6867360" cy="636840"/>
          </a:xfrm>
          <a:prstGeom prst="rect">
            <a:avLst/>
          </a:prstGeom>
          <a:solidFill>
            <a:srgbClr val="cfd3e4"/>
          </a:solidFill>
          <a:ln w="28440">
            <a:solidFill>
              <a:srgbClr val="336699"/>
            </a:solidFill>
            <a:miter/>
          </a:ln>
        </p:spPr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 стадии рефлекси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971640" y="2997360"/>
            <a:ext cx="7272360" cy="107928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отив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обуждение к дальнейшему расшир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формационного пол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1042920" y="5589720"/>
            <a:ext cx="712944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ценоч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выработка собственной пози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8"/>
          <p:cNvSpPr/>
          <p:nvPr/>
        </p:nvSpPr>
        <p:spPr>
          <a:xfrm>
            <a:off x="1042920" y="4437000"/>
            <a:ext cx="712944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нформ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риобретение новых зн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971640" y="1700280"/>
            <a:ext cx="712944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оммуник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обмен мнениями о новой информ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6859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комендуемые приём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стадии рефлекс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4360" y="1676160"/>
            <a:ext cx="7920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 «Перепутанные логические цепоч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о нового вы узнали на уро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писание синкве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ём «Написание ЭСС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иём «Класте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ем «Горячий стул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6394320" cy="81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Кластер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спользуется как средство для подведения итог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 стимул для возникновения новых ассоциа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графических изображений новых зн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тапы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. Выписывается ключевое сло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Записываются слова и предложения по т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3. Происходит разделение материала на отдельные бло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. Устанавливаются и выражаются графически логические связи между бло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6859800" cy="39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оздание группового кластера со словом учитель. Защита кластера группами.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50560" y="907920"/>
            <a:ext cx="797868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13744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Перепутанные логические цепочки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5840" y="1125360"/>
            <a:ext cx="8572320" cy="481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тапы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. На доске или карточках написаны термины (последовательность терминов), некоторые из них с ошибк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Группам предлагается исправить ошибки или восстановить порядок запи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ули Программы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67616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ые подходы в преподавании и обуче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критическому мышл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ивание для обучения и оценивание об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ИКТ в преподавании и обуче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талантливых и одаренных уче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подавание и обучение в соответствии с ВО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и лидерство в обуч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31640" y="0"/>
            <a:ext cx="646596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Синквейн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964720" cy="60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Синквейн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это стихотворение, которое требует синтеза информации и материала в кратких выраже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Правила напис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вая строчка – название темы в одном слове (существительно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торая строчка – описание темы в двух словах (прилагательные или причаст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етья строчка – описание действия в трёх словах(глаголы или деепричаст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етвёртая строчка – это фраза их четырёх слов, показывающая отношение к т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иноним из одного слова, который повторяет суть 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0160" y="380880"/>
            <a:ext cx="6859440" cy="268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актическое задание: составление синквейна к словам мышление, обучен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02920" y="404640"/>
            <a:ext cx="685980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актик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ем «Горячий стул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640720" cy="18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ие на уроках приемов критического мышления дает ученику: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2803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757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повышение эффективности восприятия информации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- повышение интереса как к изучаемому материалу, так и к самому процессу обучения;</a:t>
            </a:r>
            <a:br>
              <a:rPr sz="24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умение критически мыслить;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- </a:t>
            </a:r>
            <a:r>
              <a:rPr b="1" lang="ru-RU" sz="2400" spc="-1" strike="noStrike">
                <a:solidFill>
                  <a:srgbClr val="00337f"/>
                </a:solidFill>
                <a:latin typeface="Tahoma"/>
              </a:rPr>
              <a:t>умение ответственно относиться к собственному образованию;</a:t>
            </a:r>
            <a:br>
              <a:rPr sz="24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умение работать в сотрудничестве с другими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- повышение качества образования учеников;</a:t>
            </a:r>
            <a:br>
              <a:rPr sz="24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желание и умение стать человеком, который учится в течение все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000" y="380520"/>
            <a:ext cx="8280360" cy="153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ие на уроках приемов критического мышления дает учителю: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7905600" cy="47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умение создать в классе атмосферу открытости и ответственного сотрудничества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- возможность использовать модель обучения и систему эффективных методик, которые способствуют развитию критического мышления и самостоятельности в процессе обучения;</a:t>
            </a:r>
            <a:br>
              <a:rPr sz="24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стать практиками, которые умеют грамотно анализировать свою деятельность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- стать источником ценной профессиональной информации для других учителей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417080" cy="126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флексия «Пожелание»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95280" y="620280"/>
            <a:ext cx="8137440" cy="46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ю вам цвести, ра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ть, крепить здоров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 для дальнего пут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ейшее усло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каждый день и каждый ч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новой добуд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добрым будет ум у в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ердце будет ум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от души желаю 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зья, всего хорош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се хорошее, друзь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ся нам недеше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           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Марш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376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Удачи Вам во всем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орогие коллеги!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Спасибо за внимание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71280" y="3805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Модуль «Обучение критическому мышлению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Цель данно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о Модуля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- развитие мыслительных навыков учащихся, необходимых не только в учёбе, но и в обычной жизни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анный Модуль представляет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собой совокупность разнообразных приёмов, направленных на то, чтобы сначала заинтересовать ученик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Данный Модуль-это целостная система, </a:t>
            </a: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которая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развивает продуктивное творческое мышление, формирует интеллектуальные умения, навыки работы с информацией,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учит уч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428760" y="2357280"/>
          <a:ext cx="8143920" cy="3286440"/>
        </p:xfrm>
        <a:graphic>
          <a:graphicData uri="http://schemas.openxmlformats.org/drawingml/2006/table">
            <a:tbl>
              <a:tblPr/>
              <a:tblGrid>
                <a:gridCol w="2714400"/>
                <a:gridCol w="2716200"/>
                <a:gridCol w="2713320"/>
              </a:tblGrid>
              <a:tr h="16243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адия вызо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адия осмысл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адия рефлекс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</a:tr>
              <a:tr h="16621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раткое обобщение имеющихся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думчивая работа с новыми понятия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теграция новых и имеющихся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</a:tr>
            </a:tbl>
          </a:graphicData>
        </a:graphic>
      </p:graphicFrame>
      <p:sp>
        <p:nvSpPr>
          <p:cNvPr id="181" name="Прямоугольник 11"/>
          <p:cNvSpPr/>
          <p:nvPr/>
        </p:nvSpPr>
        <p:spPr>
          <a:xfrm>
            <a:off x="1143000" y="357120"/>
            <a:ext cx="692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тади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боты по Модулю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учение критическому мышлени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918440" y="578520"/>
            <a:ext cx="5666760" cy="733680"/>
          </a:xfrm>
          <a:prstGeom prst="rect">
            <a:avLst/>
          </a:prstGeom>
          <a:solidFill>
            <a:srgbClr val="cfd3e4"/>
          </a:solidFill>
          <a:ln w="28440">
            <a:solidFill>
              <a:srgbClr val="336699"/>
            </a:solidFill>
            <a:miter/>
          </a:ln>
        </p:spPr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 стадии вызов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971640" y="1916280"/>
            <a:ext cx="7272360" cy="86328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отив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робуждение интереса и побуждение к работ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1042920" y="3573360"/>
            <a:ext cx="7201080" cy="1079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нформ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актуализация (вызов «на поверхность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же имеющихся зн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1042920" y="5300640"/>
            <a:ext cx="7201080" cy="100800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оммуник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бесконфликтный обмен мнения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Рекомендуемые приёмы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на стадии вызов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826920" y="1267920"/>
            <a:ext cx="7632720" cy="55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Корзина и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Вы согласны с этим высказыванием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Как бы вы прокомментировали эпиграф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Верите ли вы, что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З-Х-У» («знаю-хочу узнать-узнал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68594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ем «Верите ли вы, что…»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8000" y="1125360"/>
            <a:ext cx="8280360" cy="460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Верите ли вы, что по окончанию семинара, вы что-нибудь возьмёте для своей педагогической копил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Верите ли вы, что устанете сегодня на семина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Верите ли вы, что можно детей научить учить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920" y="115560"/>
            <a:ext cx="6859440" cy="68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Корзина идей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39640" y="98064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то такое критическое мышление в вашем понима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111680" y="502920"/>
            <a:ext cx="7135560" cy="667440"/>
          </a:xfrm>
          <a:prstGeom prst="rect">
            <a:avLst/>
          </a:prstGeom>
          <a:solidFill>
            <a:srgbClr val="cfd3e4"/>
          </a:solidFill>
          <a:ln w="28440">
            <a:solidFill>
              <a:srgbClr val="336699"/>
            </a:solidFill>
            <a:miter/>
          </a:ln>
        </p:spPr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 стадии осмысле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6"/>
          <p:cNvSpPr/>
          <p:nvPr/>
        </p:nvSpPr>
        <p:spPr>
          <a:xfrm>
            <a:off x="1042920" y="2060640"/>
            <a:ext cx="727236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нформ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олучение новой информ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7"/>
          <p:cNvSpPr/>
          <p:nvPr/>
        </p:nvSpPr>
        <p:spPr>
          <a:xfrm>
            <a:off x="1116000" y="3933720"/>
            <a:ext cx="720108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истематиз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классификация, распределение информации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9</cp:lastModifiedBy>
  <cp:lastPrinted>2013-04-28T11:35:22Z</cp:lastPrinted>
  <dcterms:modified xsi:type="dcterms:W3CDTF">2014-11-17T10:42:26Z</dcterms:modified>
  <cp:revision>65</cp:revision>
  <dc:subject/>
  <dc:title>Современные образовательные технологии</dc:title>
</cp:coreProperties>
</file>